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A54-E783-4BBD-8A25-10E458FC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8BB-77E7-423D-8EFF-6542000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F08-FCC6-4669-BE65-45BAB868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F4B-8E9D-455C-9495-40063C01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D40-E23A-48F9-BEAA-2964455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C99-4BC6-43CD-86A0-6A5F401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D52-6629-4856-BBF2-DFF7662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DD3-F5FA-4435-A8F3-2C4B7307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249-8314-4A5B-8445-87E5154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166-FF4B-465C-9AB8-58CD6283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E7F-8417-48D8-BB41-4DD306D2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C61-A8D0-4966-8B4F-791146DA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AC7-CD38-4D7E-9CC4-5E7C9CCE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327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¡Laetum </a:t>
            </a:r>
            <a:br>
              <a:rPr sz="4500"/>
            </a:b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festum nativitatis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59500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00"/>
                </a:solidFill>
                <a:latin typeface="Monotype Corsiva"/>
              </a:rPr>
              <a:t>¡Fastum novum annum Ann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4520" y="223920"/>
            <a:ext cx="33796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Felicitatem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      </a:t>
            </a: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i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MMXIII</a:t>
            </a:r>
            <a:r>
              <a:rPr b="1" i="1" lang="es-ES" sz="4500" spc="-1" strike="noStrike">
                <a:solidFill>
                  <a:srgbClr val="ccff99"/>
                </a:solidFill>
                <a:latin typeface="Monotype Corsiva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21:20:17Z</dcterms:created>
  <dc:creator>Silvina</dc:creator>
  <dc:description/>
  <dc:language>en-US</dc:language>
  <cp:lastModifiedBy>Silvina</cp:lastModifiedBy>
  <dcterms:modified xsi:type="dcterms:W3CDTF">2012-12-19T22:07:27Z</dcterms:modified>
  <cp:revision>2</cp:revision>
  <dc:subject/>
  <dc:title>Laetum festum natvitatis</dc:title>
</cp:coreProperties>
</file>