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231-0180-48BE-A12A-80F15DA2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9B8-592A-4BE3-AFE7-128CD5F9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8B2-00C9-42BE-8A13-1C749A4A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7DB-4745-406B-AA31-DEC9B076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65A1-E05D-4714-B659-E066A2F8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D01F-7ED8-4EAF-BC44-FF4377B8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6136-691A-4CCA-8D25-45C96DA7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4758-69BF-4E78-B37F-BC8634BC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E4A1-2EDC-455D-BE6C-A763CD8F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DC87-DBAE-4A50-955B-604BADA1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288B-5ECC-4700-B195-70B3E7A2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C21-75DF-4DA5-A2B8-652F316F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412C-55A0-424F-8B65-6C04DA09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ABC0-58BF-47D1-87B7-3CD66743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143B-DAA0-4F10-9DE0-469D5274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6978-B893-483D-9357-34B54203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3B23-8EA7-45E2-86D1-BB78283D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2EA-C051-4136-9F1C-7730F8A0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BE7-1FCA-4A36-9937-7460BC25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FBC-D9C2-4A4A-954D-BA5E878F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25B-6A13-419E-8F72-9DA9BA19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67F-68BD-424B-A2F7-9ECF6010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7BC-5A25-4C68-B80B-4665E8A0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137-38E4-4A55-AD1A-EDA43C30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F1C5-87BC-4D3B-9FFA-C597464B4D5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9E11-5C28-4767-A8B4-71172BFBDB3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8000" spc="-1" strike="noStrike">
                <a:solidFill>
                  <a:srgbClr val="ffffcc"/>
                </a:solidFill>
                <a:latin typeface="Tahoma"/>
              </a:rPr>
              <a:t>FAMILIA MEA, </a:t>
            </a:r>
            <a:br>
              <a:rPr sz="8000"/>
            </a:br>
            <a:br>
              <a:rPr sz="8000"/>
            </a:br>
            <a:r>
              <a:rPr b="0" lang="ca-ES" sz="8000" spc="-1" strike="noStrike">
                <a:solidFill>
                  <a:srgbClr val="ffffcc"/>
                </a:solidFill>
                <a:latin typeface="Tahoma"/>
              </a:rPr>
              <a:t>GENS ME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59280" y="5661000"/>
            <a:ext cx="58435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Marc Pascual Sánchez, 4t ESO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92000" y="5229360"/>
            <a:ext cx="20876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cc"/>
                </a:solidFill>
                <a:latin typeface="Tahoma"/>
              </a:rPr>
              <a:t>Marc</a:t>
            </a:r>
            <a:br>
              <a:rPr sz="4800"/>
            </a:br>
            <a:r>
              <a:rPr b="0" lang="ca-ES" sz="2400" spc="-1" strike="noStrike">
                <a:solidFill>
                  <a:srgbClr val="ffffcc"/>
                </a:solidFill>
                <a:latin typeface="Tahoma"/>
              </a:rPr>
              <a:t>Pascual Sánchez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357360"/>
            <a:ext cx="22320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Tahoma"/>
              </a:rPr>
              <a:t>MªDolores Sánchez Serran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419640" y="765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Antonio Sánch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350028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Arial"/>
              </a:rPr>
              <a:t>Jordi Pascual Sau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773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Dolores Serrano Alcara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1700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Antonio Sánchez Martín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Maria Alcar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765000"/>
            <a:ext cx="11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Francisco Ser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7650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Rosario Martín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170028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è Saüc Seg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76500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Concepció Segura Cabasta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76500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Jaume Sauc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8720" y="170028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Jordi Pascual G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765000"/>
            <a:ext cx="7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Dolores Gou Pen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765000"/>
            <a:ext cx="86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Francisco Pascual St.Feli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26828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126828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413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2000" y="1341360"/>
            <a:ext cx="0" cy="358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2133720"/>
            <a:ext cx="792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133720"/>
            <a:ext cx="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27640" y="2133720"/>
            <a:ext cx="1081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2133720"/>
            <a:ext cx="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3860640"/>
            <a:ext cx="237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60640"/>
            <a:ext cx="0" cy="1081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692000" y="4653000"/>
            <a:ext cx="287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4653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4941720"/>
            <a:ext cx="115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ffffff"/>
                </a:solidFill>
                <a:latin typeface="Tahoma"/>
              </a:rPr>
              <a:t>Denis Pascual Sánche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184464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V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184464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V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3573360"/>
            <a:ext cx="79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AREN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4365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FRA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Mayre mater meus 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5300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Ipsa est 54 annorum. Ipsa fuit 39 annorum cum ego natus ess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22464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ordi pater meus 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Ipse est 47 annorum. Ipse fuit 32 annorum cum ego natus ess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2286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Denis frater meus 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53733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Ipse est 19 annorum. Ipse fuit 4 annorum cum ego natus ess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24084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7:57:07Z</dcterms:created>
  <dc:creator>WinuE</dc:creator>
  <dc:description/>
  <dc:language>en-US</dc:language>
  <cp:lastModifiedBy>WinuE</cp:lastModifiedBy>
  <dcterms:modified xsi:type="dcterms:W3CDTF">2012-11-25T19:46:20Z</dcterms:modified>
  <cp:revision>5</cp:revision>
  <dc:subject/>
  <dc:title>Marc</dc:title>
</cp:coreProperties>
</file>