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6619-9A93-425B-8394-02CB4DF9B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1136-1DF3-4CB6-B907-22E3F1BE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2438-51FF-4860-A12B-9662F078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E043-0993-4DED-B73C-07D71449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908F-5712-464B-BCAB-23973B57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FAA7-2EE1-4AED-B4DD-95DB0E8C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8E5D-F212-441E-89FB-16693037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0DAD-E11E-4EF6-802A-4C355318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FDA7-C07E-4215-B883-E9BCEA2C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CCC8-364A-4CB7-A143-8485A97E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3CE6-C106-40DF-903C-50206A06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C2C0-D66A-46F2-96CA-017D4722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8287-B2E1-4097-87AF-AA2E3E39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611C-41C0-4672-8FC9-C7785E09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B649-AB8C-451F-9642-D781B08E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3FBB-B034-483B-B53B-279F677C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958E-D887-4BF1-905B-E72414ECF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1854-447B-4A78-B9D0-F9E03AAE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65D5-E997-4F46-A2CE-5FFC03B8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7EA8-6A25-4C5B-9869-EEB03BCE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A78B-882E-439B-B88A-90764E35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2958-3A52-4744-90ED-3E1A301A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BC57-D58E-4E63-9A7A-ED0EF121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DF6E-60D8-4E1F-B3CE-1C5E0EE7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3343-97F1-49BB-A52A-EC0270DEF75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0347-2464-4123-8890-3450524942B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8000" spc="-1" strike="noStrike">
                <a:solidFill>
                  <a:srgbClr val="ffffcc"/>
                </a:solidFill>
                <a:latin typeface="Tahoma"/>
              </a:rPr>
              <a:t>FAMILIA MEA, </a:t>
            </a:r>
            <a:br>
              <a:rPr sz="8000"/>
            </a:br>
            <a:br>
              <a:rPr sz="8000"/>
            </a:br>
            <a:r>
              <a:rPr b="0" lang="ca-ES" sz="8000" spc="-1" strike="noStrike">
                <a:solidFill>
                  <a:srgbClr val="ffffcc"/>
                </a:solidFill>
                <a:latin typeface="Tahoma"/>
              </a:rPr>
              <a:t>GENS MEA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59280" y="5661000"/>
            <a:ext cx="584352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Tahoma"/>
              </a:rPr>
              <a:t>Marc Pascual Sánchez, 4t ESO 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92000" y="5229360"/>
            <a:ext cx="20876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ffffcc"/>
                </a:solidFill>
                <a:latin typeface="Tahoma"/>
              </a:rPr>
              <a:t>Marc</a:t>
            </a:r>
            <a:br>
              <a:rPr sz="4800"/>
            </a:br>
            <a:r>
              <a:rPr b="0" lang="ca-ES" sz="2400" spc="-1" strike="noStrike">
                <a:solidFill>
                  <a:srgbClr val="ffffcc"/>
                </a:solidFill>
                <a:latin typeface="Tahoma"/>
              </a:rPr>
              <a:t>Pascual Sánchez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357360"/>
            <a:ext cx="22320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ffffff"/>
                </a:solidFill>
                <a:latin typeface="Tahoma"/>
              </a:rPr>
              <a:t>MªDolores Sánchez Serran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419640" y="7650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Antonio Sánch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51640" y="350028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ffffff"/>
                </a:solidFill>
                <a:latin typeface="Arial"/>
              </a:rPr>
              <a:t>Jordi Pascual Sau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1773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Dolores Serrano Alcara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71640" y="1700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Antonio Sánchez Martín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11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Maria Alcara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765000"/>
            <a:ext cx="11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Francisco Serra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56000" y="76500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Rosario Martín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1700280"/>
            <a:ext cx="107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rcè Saüc Segu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765000"/>
            <a:ext cx="12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Concepció Segura Cabastan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51640" y="765000"/>
            <a:ext cx="93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Jaume Sauch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08720" y="1700280"/>
            <a:ext cx="10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Jordi Pascual Go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77080" y="765000"/>
            <a:ext cx="71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Dolores Gou Penel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956720" y="765000"/>
            <a:ext cx="86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Francisco Pascual St.Feli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1268280"/>
            <a:ext cx="0" cy="505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64000" y="1268280"/>
            <a:ext cx="0" cy="432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51640" y="1413000"/>
            <a:ext cx="0" cy="28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12000" y="1341360"/>
            <a:ext cx="0" cy="358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24000" y="2133720"/>
            <a:ext cx="792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2133720"/>
            <a:ext cx="0" cy="1295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27640" y="2133720"/>
            <a:ext cx="1081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04000" y="2133720"/>
            <a:ext cx="0" cy="1366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19640" y="3860640"/>
            <a:ext cx="237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3860640"/>
            <a:ext cx="0" cy="1081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692000" y="4653000"/>
            <a:ext cx="28796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92360" y="4653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4941720"/>
            <a:ext cx="115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ffffff"/>
                </a:solidFill>
                <a:latin typeface="Tahoma"/>
              </a:rPr>
              <a:t>Denis Pascual Sánche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68360" y="1844640"/>
            <a:ext cx="6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AV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88000" y="1844640"/>
            <a:ext cx="6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AV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1640" y="3573360"/>
            <a:ext cx="79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AREN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87640" y="4365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FRAT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cc"/>
                </a:solidFill>
                <a:latin typeface="Tahoma"/>
              </a:rPr>
              <a:t>Mayre mater meus e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530064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Ipsa est 54 annorum. Ipsa fuit 39 annorum cum ego natus ess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92360" y="1484280"/>
            <a:ext cx="224640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cc"/>
                </a:solidFill>
                <a:latin typeface="Tahoma"/>
              </a:rPr>
              <a:t>Jordi pater meus e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Ipse est 47 annorum. Ipse fuit 32 annorum cum ego natus ess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564000" y="1484280"/>
            <a:ext cx="2286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cc"/>
                </a:solidFill>
                <a:latin typeface="Tahoma"/>
              </a:rPr>
              <a:t>Denis frater meus e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53733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Ipse est 19 annorum. Ipse fuit 4 annorum cum ego natus ess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492360" y="1341360"/>
            <a:ext cx="24084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7:57:07Z</dcterms:created>
  <dc:creator>WinuE</dc:creator>
  <dc:description/>
  <dc:language>en-US</dc:language>
  <cp:lastModifiedBy>WinuE</cp:lastModifiedBy>
  <dcterms:modified xsi:type="dcterms:W3CDTF">2012-11-25T19:46:20Z</dcterms:modified>
  <cp:revision>5</cp:revision>
  <dc:subject/>
  <dc:title>Marc</dc:title>
</cp:coreProperties>
</file>