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7D4-B9F7-4066-A2A4-640397DC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3D5-8B51-453B-B83C-159F8FB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F4C-53DC-4040-89D3-17A31F8A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DFE-5423-42E5-86A5-F93F219C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F8EB-5DEE-4D50-AFA3-4956F65B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324-318D-45BE-911C-6BF32DB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36A7-9EF2-4A94-B792-A47C215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0771-0C8C-4C7E-BDB8-A6B6ADA4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D74-80DB-4FBF-813E-20066ECA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E81-E4BB-4D99-B3E5-8D7C5B6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EA7-87D2-4307-83E8-85C15F3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DC6-C8A2-4263-9F35-0F965AEF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3B1D-BCBD-4A49-B071-39ECD55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D4C-166C-47E6-A8D0-BE80C0C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5A6-6383-4F03-8DA8-97B8E867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F7B-C408-490C-9EFE-7E8407FD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BE0-3D1B-48AA-8F23-68164F6B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98E-5474-4BD7-8C39-FAB43434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10E-3DCC-4648-86F3-3E543FD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F42-C054-46A9-9FB1-B481EB4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FDE-FF30-49AE-A7D3-0A56A138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43A-010E-46EF-AEDD-CF3FE8A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DB9-F379-42C9-8644-A541169A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0AD-B1F3-4671-9456-1DEC74A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B37-2974-4647-89F2-90FEFC83E6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CF2-A168-4680-9CEB-5DBFF6B368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4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6666"/>
                </a:solidFill>
                <a:latin typeface="Arial"/>
              </a:rPr>
              <a:t>¡LAETUM FESTUM NATIVITATIS ET FAUSTUM NOVUM ANNUM, MAGISTRA ANNA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4581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372360" y="522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580000" y="2421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3046320" cy="314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95280" y="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380360" y="357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745400" y="4724280"/>
            <a:ext cx="1398600" cy="163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7740720" y="170028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755640" y="5589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638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6666"/>
                </a:solidFill>
                <a:latin typeface="Cooper Black"/>
              </a:rPr>
              <a:t>Marc Pasc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49:31Z</dcterms:created>
  <dc:creator>WinuE</dc:creator>
  <dc:description/>
  <dc:language>en-US</dc:language>
  <cp:lastModifiedBy>WinuE</cp:lastModifiedBy>
  <dcterms:modified xsi:type="dcterms:W3CDTF">2012-12-19T17:58:23Z</dcterms:modified>
  <cp:revision>2</cp:revision>
  <dc:subject/>
  <dc:title>¡LAETUM FESTUM NATIVITATIS ET FAUSTUM NOVUM ANNUM, MAGISTRA ANNA!</dc:title>
</cp:coreProperties>
</file>