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151-946E-4638-B0D3-22F7475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89F-551E-4C2C-89DF-FA6B00EC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E43-35F1-4979-A10F-5B07916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7B9-780E-43D3-869D-E8310CE3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F08B-1CE8-45D7-98D2-54361BB4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543-1A46-4C92-A04B-6BB8B68F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D012-33F7-4FF0-A36B-9CBC395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C88F-C6FF-4416-9DCD-5CB07F0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F3AA-E5B1-4251-9D31-164B8A76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AECA-3DB9-4A77-9B01-F633960E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E464-F716-4FAB-92EE-A0A3BA6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AC7-C7B1-4B46-888B-5144248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F9D5-4D40-435E-B97D-D584B3A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07D4-990E-4A37-A163-4A5C67F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5CD-27EB-4532-8A11-382F9C51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6D1-41F4-4814-8C86-343CF2E3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61B2-68E4-4F63-9D21-B6E6A10F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00A-78B7-43DF-9BDD-AAE94B5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9A0-7D72-4508-90C3-3A4CDBE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1F6-2F0E-470D-9A35-3CFB1BC8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B74-7DCF-4E5A-A0BD-0B6E0C9F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B7C-5E05-4E6E-B799-E3788C8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10-21EF-4B18-A6D5-4FB5404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B91-03A9-406C-851F-7B10C589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E58-603B-4B5E-8B65-31F597E28DBD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4DB-8E08-42D2-89E2-699497F6A408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1640" y="558972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                                  </a:t>
            </a: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Silvina Delmonte 4ºD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                         </a:t>
            </a: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Optativa 3: Llatí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56000" y="1989000"/>
            <a:ext cx="424800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>
                    <a:alphaModFix amt="84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milia mea!</a:t>
            </a:r>
            <a:endParaRPr b="1" lang="en-US" sz="4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">
                  <a:alphaModFix amt="84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0" spc="-1" strike="noStrike" u="sng">
                <a:solidFill>
                  <a:srgbClr val="000066"/>
                </a:solidFill>
                <a:uFillTx/>
                <a:latin typeface="Vijaya"/>
              </a:rPr>
              <a:t>Ego sum Silvina!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abito in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Nascere in Uruguay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Ego studeo 4tESO D, in Institut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58292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4679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Daniel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Daniel pater meus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Uruguay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Luisa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uisa mater mea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6006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Leandro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eandro frater meus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Premià de Mar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studea sextus annus in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a Lió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7:05:16Z</dcterms:created>
  <dc:creator>Silvina</dc:creator>
  <dc:description/>
  <dc:language>en-US</dc:language>
  <cp:lastModifiedBy>Silvina</cp:lastModifiedBy>
  <dcterms:modified xsi:type="dcterms:W3CDTF">2012-11-11T18:45:51Z</dcterms:modified>
  <cp:revision>2</cp:revision>
  <dc:subject/>
  <dc:title>Diapositiva 1</dc:title>
</cp:coreProperties>
</file>